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DD3-CFFF-440A-A62D-614FF5B6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24B-F331-48D3-A3DC-A3B6B7CD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4BD-E988-45B5-B5BD-BD85FC7C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CDD-5734-415D-9F3F-A2906682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C4E-48B4-478F-8BF6-24CF38F0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EE0-AABA-4909-BA56-C9F3E60B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8BC-52F3-44DA-872C-D8C5EC9B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D30-CC7A-456A-82F0-D9562728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01A-461B-4290-A01D-C6D3A0DE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238-4A3E-4305-B29F-C0C3B871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5E0-D716-443A-92E1-6DBFD709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FA0-FBE5-47FA-B17E-E4A04CE8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98B4-4D50-451B-BD9B-4550DA8CA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143000"/>
            <a:ext cx="76197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The Bear And The 3 wolves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56386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anny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4035600"/>
            <a:ext cx="2643120" cy="282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Mora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Union Is streng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71800" y="3352680"/>
            <a:ext cx="28954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B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 wol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2971800"/>
            <a:ext cx="287964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47920" y="38862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olves were always with each other. The bear lays ambushed in the forest trying to get something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990720" y="4952880"/>
            <a:ext cx="198144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1295280" y="3124080"/>
            <a:ext cx="2057400" cy="1684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-1066680" y="175248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55" name="Tree"/>
          <p:cNvSpPr/>
          <p:nvPr/>
        </p:nvSpPr>
        <p:spPr>
          <a:xfrm>
            <a:off x="4800600" y="48006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ree"/>
          <p:cNvSpPr/>
          <p:nvPr/>
        </p:nvSpPr>
        <p:spPr>
          <a:xfrm>
            <a:off x="6629400" y="25146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ree"/>
          <p:cNvSpPr/>
          <p:nvPr/>
        </p:nvSpPr>
        <p:spPr>
          <a:xfrm>
            <a:off x="5562720" y="25146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ree"/>
          <p:cNvSpPr/>
          <p:nvPr/>
        </p:nvSpPr>
        <p:spPr>
          <a:xfrm>
            <a:off x="7334280" y="26668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ree"/>
          <p:cNvSpPr/>
          <p:nvPr/>
        </p:nvSpPr>
        <p:spPr>
          <a:xfrm>
            <a:off x="6248520" y="25146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ree"/>
          <p:cNvSpPr/>
          <p:nvPr/>
        </p:nvSpPr>
        <p:spPr>
          <a:xfrm>
            <a:off x="4343400" y="50482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ree"/>
          <p:cNvSpPr/>
          <p:nvPr/>
        </p:nvSpPr>
        <p:spPr>
          <a:xfrm>
            <a:off x="4648320" y="26668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781680" y="4876920"/>
            <a:ext cx="19036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4624E-007 C 0.05833 -0.01896 0.00417000000000001 -0.00208 0.16667 -0.00208 E">
                                      <p:cBhvr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5.78035E-007 C 0.11008 0.00278 0.05296 0.00208 0.17136 0.00208 E">
                                      <p:cBhvr>
                                        <p:cTn id="8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6763E-006 C 0.20573 0.00208 0.12986 0.00208 0.22691 0.00208 E">
                                      <p:cBhvr>
                                        <p:cTn id="9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r started to get scared that he would get attacked by the 3 wolves while trying to attack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527880" y="1752480"/>
            <a:ext cx="2616120" cy="4365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27000" y="1990800"/>
            <a:ext cx="2286000" cy="1501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057400" cy="1684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981080" y="2743200"/>
            <a:ext cx="21592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r then just went for it without any fear and attacked the 3 wolves and then the bear had something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63120" y="4876920"/>
            <a:ext cx="4190760" cy="335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2743200" cy="2246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28600" y="3124080"/>
            <a:ext cx="2743200" cy="2246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28600" y="4673520"/>
            <a:ext cx="2666880" cy="2184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81680" y="2133720"/>
            <a:ext cx="2590920" cy="1371600"/>
          </a:xfrm>
          <a:prstGeom prst="wedgeRectCallout">
            <a:avLst>
              <a:gd name="adj1" fmla="val 25856"/>
              <a:gd name="adj2" fmla="val 106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R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795 -0.0874 C -0.28646 -0.08 -0.29062 -0.08069 -0.30174 -0.07907 C -0.31076 -0.07607 -0.31997 -0.07375 -0.32882 -0.07052 C -0.33264 -0.06913 -0.33611 -0.06566 -0.33993 -0.06427 C -0.34566 -0.06219 -0.35156 -0.06196 -0.35729 -0.06011 C -0.36806 -0.0504 -0.35486 -0.06104 -0.3717 -0.05364 C -0.37344 -0.05294 -0.37465 -0.0504 -0.37639 -0.04948 C -0.38212 -0.0467 -0.38819 -0.04555 -0.39392 -0.043 C -0.42222 -0.03005 -0.45312 -0.01872 -0.48281 -0.01341 C -0.49167 -0.00948 -0.48594 -0.01179 -0.50017 -0.00716 C -0.50538 -0.00555 -0.51615 -0.003 -0.51615 -0.003 C -0.5283 0.00555 -0.5184 -3.52601000000018E-006 -0.53993 0.00347 C -0.55243 0.00555 -0.56389 0.0118 -0.57639 0.01388 C -0.58542 0.01827 -0.59566 0.02035 -0.60503 0.02243 C -0.62674 0.02174 -0.64844 0.02266 -0.66997 0.02035 C -0.67187 0.02012 -0.66649 0.01827 -0.66528 0.01619 C -0.65903 0.00578 -0.6691 0.01341 -0.66059 0.00347 C -0.65764 -3.52601000000018E-006 -0.65382 -0.00161 -0.65104 -0.00508 C -0.64219 -0.01618 -0.61962 -0.03098 -0.60816 -0.03468 C -0.6066 -0.03607 -0.60503 -0.03792 -0.6033 -0.03884 C -0.60035 -0.04069 -0.59392 -0.043 -0.59392 -0.043 C -0.58715 -0.04925 -0.57951 -0.05063 -0.5717 -0.05364 C -0.56736 -0.05526 -0.56441 -0.05664 -0.56059 -0.06011 C -0.55937 -0.06127 -0.55868 -0.06358 -0.55729 -0.06427 C -0.55052 -0.0682 -0.54219 -0.06751 -0.53507 -0.07052 C -0.52726 -0.08161 -0.51858 -0.08508 -0.50816 -0.08971 C -0.50503 -0.09109 -0.50139 -0.09133 -0.49861 -0.09387 C -0.49583 -0.09641 -0.49358 -0.09988 -0.49062 -0.10219 C -0.48628 -0.10566 -0.48108 -0.10659 -0.47639 -0.10867 C -0.47326 -0.11005 -0.46684 -0.11283 -0.46684 -0.11283 C -0.46163 -0.11745 -0.45625 -0.11745 -0.45104 -0.12138 C -0.44774 -0.12393 -0.44149 -0.12971 -0.44149 -0.12971 C -0.44219 -0.15352 -0.43698 -0.20208 -0.46215 -0.21017 C -0.56545 -0.20786 -0.59045 -0.20624 -0.70816 -0.20809 C -0.69653 -0.21318 -0.70191 -0.21109 -0.69219 -0.21433 C -0.68125 -0.22173 -0.66788 -0.22451 -0.65573 -0.22705 C -0.65 -0.22959 -0.64722 -0.23468 -0.64149 -0.23768 C -0.63125 -0.243 -0.62014 -0.24786 -0.60972 -0.25248 C -0.60451 -0.25479 -0.59913 -0.25641 -0.59392 -0.25872 C -0.59236 -0.25942 -0.58906 -0.26081 -0.58906 -0.26081 C -0.57969 -0.26913 -0.58976 -0.26127 -0.57639 -0.26728 C -0.56979 -0.27029 -0.57083 -0.27144 -0.56528 -0.2756 C -0.55694 -0.28185 -0.5474 -0.28647 -0.53837 -0.2904 C -0.53628 -0.29133 -0.53403 -0.29156 -0.53194 -0.29248 C -0.52708 -0.29456 -0.5224 -0.29688 -0.51771 -0.29896 C -0.51615 -0.29965 -0.51285 -0.30104 -0.51285 -0.30104 C -0.50417 -0.30982 -0.50087 -0.30635 -0.49219 -0.31167 C -0.48785 -0.31422 -0.48403 -0.31838 -0.47951 -0.32 C -0.47708 -0.32092 -0.47101 -0.32254 -0.4684 -0.32416 C -0.46632 -0.32531 -0.46441 -0.32763 -0.46215 -0.32855 C -0.4533 -0.33225 -0.44514 -0.33341 -0.43663 -0.33896 C -0.43299 -0.34404 -0.42396 -0.35167 -0.42396 -0.35167 C -0.42049 -0.35884 -0.41458 -0.36346 -0.41128 -0.37086 C -0.40729 -0.37988 -0.40417 -0.3882 -0.40174 -0.39815 C -0.38351 -0.54635 -0.61927 -0.4356 -0.73351 -0.4363 C -0.73038 -0.44046 -0.72708 -0.44485 -0.72396 -0.44901 C -0.72274 -0.45063 -0.72083 -0.45017 -0.71927 -0.45109 C -0.71701 -0.45225 -0.7151 -0.4541 -0.71285 -0.45526 C -0.7033 -0.46011 -0.69115 -0.46682 -0.68108 -0.47005 C -0.67656 -0.4763 -0.67135 -0.48208 -0.66528 -0.48485 C -0.6625 -0.4874 -0.6526 -0.49549 -0.64948 -0.49549 E">
                                      <p:cBhvr>
                                        <p:cTn id="113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31:45Z</dcterms:created>
  <dc:creator>install</dc:creator>
  <dc:description/>
  <dc:language>en-US</dc:language>
  <cp:lastModifiedBy>install</cp:lastModifiedBy>
  <dcterms:modified xsi:type="dcterms:W3CDTF">2010-12-17T16:53:07Z</dcterms:modified>
  <cp:revision>16</cp:revision>
  <dc:subject/>
  <dc:title>Slide 1</dc:title>
</cp:coreProperties>
</file>